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D15CED6-9972-4F9B-875E-981F0C8B7587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9FD7F68-97E1-4523-BB96-3FA8BC7B9FC3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625CA6C-6379-4DF1-826D-63995A700C7A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B67C299-0C95-4F56-9D0A-CD5CAC52391C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6171000-C712-42C2-952D-C4916A44B1B9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34840FC-D719-479D-9D78-A6B796EE9F3B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09BADC1-A84B-4280-950D-05EB8DDC5CB4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6D24-D19C-44DF-A9C2-FD5271D7E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9599-6297-4F5B-A521-CC52E8A77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8F9670-A2C6-4BCB-8C7D-482032BF676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ABA1C7-1C6E-45C5-B2A5-0913C0E08FC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E4E8F8-162F-4468-BD94-0656BDE68A6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129C1E-A6CD-4D0F-910D-3647B7825C6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799556-6078-4779-BD3F-1910ED14823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224E98-07E9-47EE-AE68-2050FEDE095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F22028-2CE6-4323-9694-3D8F34C7E13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FB3D7A-1BC0-4B5E-9C14-2BA33215DC5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1A3755-DAD6-4FE4-B36A-D0BFE98F0B5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3857-36B0-4BD1-99EF-91186EBCC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26E0-38BC-44E9-80A6-A612D3E3F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A4A3-B8FF-4C78-9D4E-20E77E491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AA1FB8-C985-4896-B4F4-B8C34166C4A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B1655C-52B3-45F3-B5FF-966CD6C1B7F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E746F8-50D2-4929-81ED-0FE07A5C5D0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ADC4FE-0C92-4DB1-A507-496C68FB42F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943544-7301-43CF-9F3D-7A6851B3C6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038F-3E7E-4CF4-8651-764E60E47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C3DE41-24CA-4B3E-9F24-26C7330346B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82739A-1E05-41C4-805C-017E63D65C8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2D9512-0C73-41BC-BE86-E0DC5A04228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AC579E-0FBD-40B7-9B7A-1991B85A476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1B5386-DEFB-4446-8AF6-1655ADAF9D8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117F07-CF56-4030-B11D-716719CDE14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9A7189-C85A-4871-8516-1B13443DF77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6DCBE3-0A6C-4767-ACAF-79C8C254EDB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D17039-B56D-4AFC-A9C6-D830E1F7351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1EBDC7-C874-42E8-A9A1-6FA67D77BB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D6F4-D197-477D-940E-662B5A3DD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BE5A31-4D21-4FA3-B617-5AC479D2310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5F81FC-EFDD-4A9B-ABBA-2A8A33621C9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F106FC-45BB-4AFC-BFD5-230415DF43C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2881FD-4415-4E59-851E-9F33F13C8A5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6149CD-AA0E-4549-A6B8-07A5C257FC8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8D23C8-2D19-4916-8A6D-E7D05BD8612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C5A581-0B91-4D75-ACF2-98EC0164F53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BDB7FB-303B-4CBD-B61C-00AC8FF574C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132667-BBDD-4A5F-8383-B1064BD8023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2EB62-A070-411E-B252-DB6F5B6DAA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6465-C078-4188-BF67-3F2A6750D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5D2B6-35D2-41CB-9E12-3A2E8416445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E42C9-E3D6-4B78-A4FB-D503FE52CFB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BACA2-E0A7-4FBD-877F-754BAF3DC57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5C51A-B225-4042-A56E-B6316535C45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5636D-4340-4248-8FE3-65C0ECB55C8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80C27-B425-4646-B310-32A6942CC3F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EC153-FE61-4856-A957-F8BBA6633AE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A15E7-FEBA-4919-BC10-FB7B4F37459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0BAD7-96AF-40C0-8DFE-450FC747769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7900A-A17C-4DD9-B657-33DDDF99D6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B10E-AF50-45F8-BE0B-1523824EA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037CF-8A5D-4E1B-BF45-AF43635A27F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BDD582-FB5E-44DA-8885-28A4DC0AFC4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E51E23-072A-4B4E-B890-A474A2BAB5F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C0089B-1BD1-4572-9B37-25614431293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EE3C28-1F4B-4E5A-BDA7-1718A29C54D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8D21A3-8686-4751-B583-FBF20A4F09E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BD4085-AC99-418B-B6B2-534E17A12B6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184EDD-C74F-4C13-8CA9-BC9A4259C39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5D96EE-0082-474A-B481-08DDBBB1C53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42E79E-DFF0-4C37-B9C7-72E0F34DC2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7637-C87F-42F2-AECD-197DB05F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261425-1EF2-4FF3-9070-3E863E8181A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20911E-C4A5-4819-BC51-E3B21914E50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A2EC8A-044E-4145-8C15-FAE0CC0E0F4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7F0B5C-2E48-4C36-B8D0-D9074B55893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B323AA-99A9-43B0-AF4C-E2DAFF6EDBF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59316C-BA8E-46C9-AF92-8516F233E97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DA092C-1132-4B3D-BBFA-C1F49375F69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E4B0BF-5426-4FD2-AA22-0820DF9C6F2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9808E0-6129-4F4F-9BC8-5D3D87291AF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DDB0E7-8B25-418D-8D4C-20B673BB1D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4107-AB3E-41A2-9A41-6476AB05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73515A-B824-4C3E-B27B-51DE7738049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434420-DAD8-47FA-BFBC-44F7BCC22D3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35DAF0-EFD3-4F9D-8536-D5AB8C5AE7F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205582-A970-4395-A8FA-2A93E5785AE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CF342A-8E2A-4D7C-8970-3CEA2E3D48F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8DB07-706F-4670-B5D4-72E647B005C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EB468-D705-4711-96BC-0175011A048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577C5-AA21-4B03-9F4E-368E13955F1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DF7D5-D8BA-4CDB-A27F-04F4256121E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7DE19-415C-45BE-A146-09ED8AA869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379C-63EE-4E4C-84E1-DE42DE0A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4F58A-D33D-44D3-9B54-58082315756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4E220-99CE-47B9-A744-BF50C3936EC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F92A0-24DC-40A5-AAA3-6F5F1213192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9CDAD-39DE-45FB-BEB3-CF2EB5D7B13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62D17-9189-4EED-9CBC-B60A6FF2577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21B30-4B6F-438A-AA5D-CD0D666C8B9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6B0D3-AB6D-45C0-A827-A3360F3988D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426215-1216-470E-B624-55CC2ADFF9B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643BE9-FFB0-4129-8195-0E49213AA62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2D96C9-01A3-42D4-8A77-879476ABD4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A2A0337-04B6-4F16-97A5-C3F1BB26F75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0EF2B8A-525C-4085-BB27-0D78312417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7" descr=""/>
          <p:cNvPicPr/>
          <p:nvPr/>
        </p:nvPicPr>
        <p:blipFill>
          <a:blip r:embed="rId2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6" descr=""/>
          <p:cNvPicPr/>
          <p:nvPr/>
        </p:nvPicPr>
        <p:blipFill>
          <a:blip r:embed="rId3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685800" y="4724280"/>
            <a:ext cx="77724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4"/>
          </p:nvPr>
        </p:nvSpPr>
        <p:spPr>
          <a:xfrm>
            <a:off x="8686440" y="627012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E7AB403-55DA-4C18-A696-43175606485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8686440" y="616860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D1C1ED6-A561-417B-B9A6-943567409AE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8686440" y="616860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8FB85B9-DAEC-416D-B618-A9DA126696C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8686440" y="616860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6DA12AD-87CF-4F26-9111-0E392C3ECF8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8686440" y="616860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7D2ED4E-D227-473D-9ED6-1DB1BA2599A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8686440" y="616860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028C145-3B82-48D9-ACE2-8BCDC223753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8686440" y="616860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730C23C-EEA1-4793-9F1D-565DB7C2EF9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lm.gov.lv/" TargetMode="External"/><Relationship Id="rId2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3505320"/>
            <a:ext cx="7772400" cy="960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00000"/>
                </a:solidFill>
                <a:latin typeface="Verdana"/>
                <a:ea typeface="Verdana"/>
              </a:rPr>
              <a:t>Vardarbības pret sievieti un vardarbības ģimenē novēršanas un apkarošanas plāna 2024.-2029.gadam</a:t>
            </a:r>
            <a:br>
              <a:rPr sz="2500"/>
            </a:br>
            <a:r>
              <a:rPr b="1" lang="lv-LV" sz="2500" spc="-1" strike="noStrike">
                <a:solidFill>
                  <a:srgbClr val="000000"/>
                </a:solidFill>
                <a:latin typeface="Verdana"/>
                <a:ea typeface="Verdana"/>
              </a:rPr>
              <a:t>izstrāde</a:t>
            </a:r>
            <a:br>
              <a:rPr sz="2500"/>
            </a:br>
            <a:r>
              <a:rPr b="1" lang="lv-LV" sz="1400" spc="-1" strike="noStrike">
                <a:solidFill>
                  <a:srgbClr val="000000"/>
                </a:solidFill>
                <a:latin typeface="Verdana"/>
                <a:ea typeface="Verdana"/>
              </a:rPr>
              <a:t> 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57607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885680" y="380880"/>
            <a:ext cx="6800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Times New Roman"/>
                <a:ea typeface="Verdana"/>
              </a:rPr>
              <a:t>Plāna struktū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590560" y="6270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76920" y="627336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1" name="Slide Number Placeholder 5"/>
          <p:cNvSpPr/>
          <p:nvPr/>
        </p:nvSpPr>
        <p:spPr>
          <a:xfrm>
            <a:off x="8686800" y="6270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B9E199D-69F1-48C4-91B3-646897A7D68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603360" y="1568160"/>
            <a:ext cx="8083440" cy="4908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imes New Roman"/>
                <a:ea typeface="Verdana"/>
              </a:rPr>
              <a:t>Plāna mērķis - ir nodrošināt integrētu, mērķtiecīgu un efektīvu politiku, lai novērstu un apkarotu vardarbību pret sievietēm un vardarbību ģimenē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Mērķa sasniegšanai tiek izvirzīti četri rīcības virzieni –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Preventīvie pasākumi  vardarbības pret sievieti un vardarbības ģimenē novēršana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 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Vardarbībā cietušo personu aizsardzības un atbalsta pasākumu nodrošināšana un to pilnveid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Vardarbības veicēja atbildības stiprināšana, atbalsta un rehabilitācijas pakalpojumu nodrošināšana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Vienotas un koordinētas politikas izveide attiecībās uz vardarbību pret sievietēm un vardarbību ģimenē jautājumiem.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885680" y="380880"/>
            <a:ext cx="6800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Verdana"/>
              </a:rPr>
              <a:t>Preventīvie pasākumi  vardarbības pret sievieti un vardarbības ģimenē novēršana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590560" y="6270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876920" y="627336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6" name="Slide Number Placeholder 5"/>
          <p:cNvSpPr/>
          <p:nvPr/>
        </p:nvSpPr>
        <p:spPr>
          <a:xfrm>
            <a:off x="8686800" y="6270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BDB6D5B-7706-4BC9-9893-E6A37D39893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603360" y="1319040"/>
            <a:ext cx="8083440" cy="5158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Sabiedrības izglītošana un izpratnes veicināšana par vardarbības pret sievieti un vardarbības ģimenē postošo ietekmi uz sabiedrību un ģimen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Kampaņas, izglītojoši pasākumi, izstrādāta un regulāri pilnveidota tīmekļa vietne  un aplikācija, viegli saprotamā valodā izstrādāti un izplatīti informatīvi materiāli par vardarbības atpazīšan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Informatīvi starpdisciplinārie un izglītojošie  pasākumi speciālistiem un padziļinātas mācības tiesībsargājošajām iestādē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Konferences un starpdisciplināri informatīvie, un labās prakses popularizēšanas pasākumi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Mācības izglītības iestādes darbiniekiem, sociālā jomā strādājošie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Metodiskais materiāls darbā ar vardarbībā cietušiem bērnie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Apmācības procesa virzītājie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Valsts policijas speciālistu zināšanas pilnveid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Izglītojoši pasākumi bērniem un viņu vecākiem/likumiskajiem pārstāvjiem par vardarbības atpazīšanu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Bērniem un viņu vecākiem/likumiskajiem pārstāvjiem izglītojoši pasākumi par vardarbību, seksuālās izmantošanas riskiem, kaitīgu sekuālu uzvedību u.c.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Ieviestas vardarbības mazināšanas un novēršanas programmas katrā izglītības iestādē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Resocializācijas programmas «Vecāku prasmes» nodrošināšan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885680" y="380880"/>
            <a:ext cx="6800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Verdana"/>
              </a:rPr>
              <a:t>(2) Vardarbībā cietušo personu aizsardzības un atbalsta pasākumu nodrošināšana un to pilnveide;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590560" y="6270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76920" y="627336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8686800" y="6270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4129070-F9E8-4ABA-87B0-279ED6C1A69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603360" y="1549440"/>
            <a:ext cx="8083440" cy="4927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Atbalsta un sociālās rehabilitācijas pakalpojuma pilnveidošana no vardarbības cietušām personā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Esošo sociālo rehabilitāciju pakalpojumu efektivitātes izvērtēšana un pakalpojumu pilnveid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Jaunu atbalsta un palīdzība pakalpojumu izveide – atbalsta grupas, bezmaksas tālruņa izveide, atbalsta centrs seksuālajā vardarbībā cietušām personām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Pilnveidot tiesiskās aizsardzības nodrošināšanu vardarbībā cietušām personā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Elektroniskā uzraudzība kā jauns drošības līdzeklis vai jau pastāvoša drošības līdzekļa elements kriminālprocesā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Paplašināt personu loku, kuriem ir tiesības uz bezmaksas valsts nodrošināto juridisko palīdzību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885680" y="380880"/>
            <a:ext cx="6800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Times New Roman"/>
                <a:ea typeface="Verdana"/>
              </a:rPr>
              <a:t>(3) Vardarbības veicēja atbildības stiprināšana, atbalsta un rehabilitācijas pakalpojumu nodrošināšana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590560" y="6270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76920" y="627336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6" name="Slide Number Placeholder 5"/>
          <p:cNvSpPr/>
          <p:nvPr/>
        </p:nvSpPr>
        <p:spPr>
          <a:xfrm>
            <a:off x="8686800" y="6270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BA00FAB-70C9-433A-9D10-9A3A7F42DCC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603360" y="1539360"/>
            <a:ext cx="8083440" cy="4937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Atbalsta un sociālās rehabilitācijas pakalpojuma pilnveidošana vardarbību veikušām personām, vai personām, kuras baidās, ka var veikt vardarbību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Esošo sociālo rehabilitāciju pakalpojumu efektivitātes izvērtēšana un pakalpojumu pilnveid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Jaunu atbalsta un palīdzība pakalpojumu izveide – pakalpojuma izveide nepilngadīgām personām, atbalsta grupas, bezmaksas tālruņa izveid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Ieviestas resocializācijas programmas vardarbīgu noziegumu veikušām personā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Tiesiskā regulējuma pilnveide attiecībā uz vardarbību pret sievietēm un vardarbību ģimenē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Vardarbību veikušām personām </a:t>
            </a: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piemērot kriminālsodus, kuri veicina personas maiņu domāšanā, attieksmē un uzvedībā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Tiesiskajā regulējumā definēt </a:t>
            </a:r>
            <a:r>
              <a:rPr b="0" i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vardarbība ģimenē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ordVisi_MSFontService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96680" y="380880"/>
            <a:ext cx="72946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Times New Roman"/>
                <a:ea typeface="Verdana"/>
              </a:rPr>
              <a:t>(4) Vienotas un koordinētas politikas izveide attiecībās uz vardarbību pret sievietēm un vardarbību ģimenē jautājumiem. </a:t>
            </a:r>
            <a:br>
              <a:rPr sz="1600"/>
            </a:b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590560" y="6270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876920" y="627336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41" name="Slide Number Placeholder 5"/>
          <p:cNvSpPr/>
          <p:nvPr/>
        </p:nvSpPr>
        <p:spPr>
          <a:xfrm>
            <a:off x="8686800" y="6270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C347681-AEF6-4B06-BC44-D2C648EBF27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603360" y="1599840"/>
            <a:ext cx="8083440" cy="4876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Tiks izveidota </a:t>
            </a: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starpinstitūciju darba grupu Plāna īstenošanas koordinēšanai 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Īstenot starpinstitucionālo sadarbību un vienotas politikas izstrād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Izstrādāt un ieviest obligātas un regulāras starpinstitucionālas sanāksmes augstas vardarbības riska gadījumos, tai skaitā vadlīnijas ar algoritmi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Starpdisciplināra atbalsta komanda darbā ar komplicētiem vardarbības gadījumiem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Izstrādāti priekšlikumi noteikumiem par Pašvaldību sadarbības grupu izveidi vardarbības pret pilngadīgu personu gadījum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Pierādījumos un vienotā metodoloģijā balstītas vardarbības monitoringa izveide un situācijas analīz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Izstrādāts vardarbības datu monitorings, veikti regulāri pētījumi, ietekmes novērtējum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ada pārskata sagatavošana un publicēšana par 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vardarbību pret sievieti un vardarbību ģimenē situācijas analīzi un Plāna īstenotajiem pasākumi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ordVisi_MSFontService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885680" y="380880"/>
            <a:ext cx="6800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Times New Roman"/>
                <a:ea typeface="Verdana"/>
              </a:rPr>
              <a:t>Izstrādes proc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590560" y="6270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76920" y="627336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46" name="Slide Number Placeholder 5"/>
          <p:cNvSpPr/>
          <p:nvPr/>
        </p:nvSpPr>
        <p:spPr>
          <a:xfrm>
            <a:off x="8686800" y="6270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B57D754-A278-4E07-99C9-6692BB66D4A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603360" y="1319040"/>
            <a:ext cx="8083440" cy="5158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8.septembrī pirmā darba grupa (Valsts iestādes, NVO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2.oktobrī Plāna struktūra un apkopoti priekšlikumi izsūtīti iestādēm papildināšanai un komentēšana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Līdz 17.oktobrim iesaistītās iestādes sniedz savus redzējumus Plānā ietvertajiem pasākumi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Oktobrī un novembrī plānotas individuālas sanāksmes ar iestādēm un NV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Līdz 1.novembrim tiks sagatavots ziņojums par paveikto saistībā ar Plāna izstrād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685800" y="3107880"/>
            <a:ext cx="7772400" cy="2530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400" spc="-1" strike="noStrike" u="sng">
                <a:solidFill>
                  <a:srgbClr val="0000ff"/>
                </a:solidFill>
                <a:uFillTx/>
                <a:latin typeface="Tahoma"/>
                <a:ea typeface="Verdana"/>
                <a:hlinkClick r:id="rId1"/>
              </a:rPr>
              <a:t>www.lm.gov.l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400" spc="-1" strike="noStrike">
                <a:solidFill>
                  <a:srgbClr val="005927"/>
                </a:solidFill>
                <a:latin typeface="Tahoma"/>
                <a:ea typeface="Verdana"/>
              </a:rPr>
              <a:t>Twitter:@Lab_m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400" spc="-1" strike="noStrike">
                <a:solidFill>
                  <a:srgbClr val="005927"/>
                </a:solidFill>
                <a:latin typeface="Tahoma"/>
                <a:ea typeface="Verdana"/>
              </a:rPr>
              <a:t>https://www.facebook.com/labklajibasministri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400" spc="-1" strike="noStrike">
                <a:solidFill>
                  <a:srgbClr val="005927"/>
                </a:solidFill>
                <a:latin typeface="Tahoma"/>
                <a:ea typeface="Verdana"/>
              </a:rPr>
              <a:t>Flickr.com:Labklajibas_ministri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400" spc="-1" strike="noStrike">
                <a:solidFill>
                  <a:srgbClr val="005927"/>
                </a:solidFill>
                <a:latin typeface="Tahoma"/>
                <a:ea typeface="Verdana"/>
              </a:rPr>
              <a:t>Youtube.com/labklajibasministri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400" spc="-1" strike="noStrike">
                <a:solidFill>
                  <a:srgbClr val="005927"/>
                </a:solidFill>
                <a:latin typeface="Tahoma"/>
                <a:ea typeface="Verdana"/>
              </a:rPr>
              <a:t>Draugiem.lv/labklajib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57607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Lelde Kēla</cp:lastModifiedBy>
  <dcterms:modified xsi:type="dcterms:W3CDTF">2023-10-11T11:36:33Z</dcterms:modified>
  <cp:revision>115</cp:revision>
  <dc:subject/>
  <dc:title>PowerPoint Presentation</dc:title>
</cp:coreProperties>
</file>